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AE01F51F-FCE1-4739-97E7-BC3BB619D3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914400" y="4724280"/>
            <a:ext cx="494496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894960" y="752040"/>
            <a:ext cx="4946760" cy="37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914400" y="4714920"/>
            <a:ext cx="4950000" cy="44575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914400" y="4714920"/>
            <a:ext cx="4950000" cy="44575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914400" y="4714920"/>
            <a:ext cx="4950000" cy="44575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914400" y="4714920"/>
            <a:ext cx="4950000" cy="44575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914400" y="4714920"/>
            <a:ext cx="4950000" cy="44575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914400" y="4714920"/>
            <a:ext cx="4950000" cy="44575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914400" y="4714920"/>
            <a:ext cx="4950000" cy="44575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914400" y="4714920"/>
            <a:ext cx="4950000" cy="44575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914400" y="4714920"/>
            <a:ext cx="4950000" cy="44575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914400" y="4714920"/>
            <a:ext cx="4950000" cy="44575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714920"/>
            <a:ext cx="4950000" cy="44575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914400" y="4714920"/>
            <a:ext cx="4950000" cy="44575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914400" y="4714920"/>
            <a:ext cx="4950000" cy="44575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905040" y="762120"/>
            <a:ext cx="497808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914400" y="4714920"/>
            <a:ext cx="4950000" cy="44575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39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8080" y="3940560"/>
            <a:ext cx="7839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4960" y="167652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4056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4960" y="394056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25239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8760" y="1676520"/>
            <a:ext cx="25239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9080" y="1676520"/>
            <a:ext cx="25239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8080" y="3940560"/>
            <a:ext cx="25239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8760" y="3940560"/>
            <a:ext cx="25239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9080" y="3940560"/>
            <a:ext cx="25239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8080" y="1676520"/>
            <a:ext cx="783936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39360" cy="43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5360" cy="43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4960" y="1676520"/>
            <a:ext cx="3825360" cy="43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630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4960" y="1676520"/>
            <a:ext cx="3825360" cy="43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8080" y="394056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5360" cy="43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4960" y="167652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4960" y="394056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4960" y="167652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40560"/>
            <a:ext cx="7839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828800" y="637524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FC0B9FD4-ECD9-4C25-96E5-C02108FA1B04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676520"/>
            <a:ext cx="7839360" cy="43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s://progur.com/2017/02/create-mandelbrot-fractal-javascript.html" TargetMode="External"/><Relationship Id="rId2" Type="http://schemas.openxmlformats.org/officeDocument/2006/relationships/hyperlink" Target="https://stackoverflow.com/questions/49785734/animating-a-fractal-tree-inside-a-javascript-canva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Rekursioon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Funktsionaalne ja loogiline programmeerimin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654360" y="2925720"/>
            <a:ext cx="2106720" cy="2011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ract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.C. Escher: smaller and smal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914400" y="299880"/>
            <a:ext cx="7767720" cy="306720"/>
            <a:chOff x="914400" y="299880"/>
            <a:chExt cx="7767720" cy="306720"/>
          </a:xfrm>
        </p:grpSpPr>
        <p:sp>
          <p:nvSpPr>
            <p:cNvPr id="104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682120" y="299880"/>
              <a:ext cx="0" cy="30672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057400" y="1371600"/>
            <a:ext cx="4952880" cy="4919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ractal/recursive objects in the real wor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.C. Escher: Three worl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914400" y="299880"/>
            <a:ext cx="7767720" cy="306720"/>
            <a:chOff x="914400" y="299880"/>
            <a:chExt cx="7767720" cy="306720"/>
          </a:xfrm>
        </p:grpSpPr>
        <p:sp>
          <p:nvSpPr>
            <p:cNvPr id="110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8682120" y="299880"/>
              <a:ext cx="0" cy="30672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48320" y="838080"/>
            <a:ext cx="2995560" cy="5334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cursive objects in the world: enco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762120"/>
            <a:ext cx="7848720" cy="58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cursion allows to encode a huge amount of complexity in a very efficient w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xample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nimals are incredibly comple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nimals are constructed from blueprints: ge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648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genes are very small when compared to anima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nimals contain copies of genes in huge amou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648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How is it possibl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nimals are constructed from gene blueprints in recursive form! Animal construction constructs many small parts similarly to large par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648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14400" y="299880"/>
            <a:ext cx="7767720" cy="306720"/>
            <a:chOff x="914400" y="299880"/>
            <a:chExt cx="7767720" cy="306720"/>
          </a:xfrm>
        </p:grpSpPr>
        <p:sp>
          <p:nvSpPr>
            <p:cNvPr id="116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8682120" y="299880"/>
              <a:ext cx="0" cy="30672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cursive objects in the world: enco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762120"/>
            <a:ext cx="7848720" cy="58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914400" y="299880"/>
            <a:ext cx="7767720" cy="306720"/>
            <a:chOff x="914400" y="299880"/>
            <a:chExt cx="7767720" cy="306720"/>
          </a:xfrm>
        </p:grpSpPr>
        <p:sp>
          <p:nvSpPr>
            <p:cNvPr id="121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8682120" y="299880"/>
              <a:ext cx="0" cy="30672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74680" y="914400"/>
            <a:ext cx="8412120" cy="5649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cursive functions: main princi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mportant to check that recursion terminates. Code should contai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One or more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base case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(no recursion involved!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One or more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recursive cases.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rguments of the recursive call must be “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impler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” according to some measur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648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NB! The “simplicity” measure may be arbitrarily comple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914400" y="299880"/>
            <a:ext cx="7767720" cy="306720"/>
            <a:chOff x="914400" y="299880"/>
            <a:chExt cx="7767720" cy="306720"/>
          </a:xfrm>
        </p:grpSpPr>
        <p:sp>
          <p:nvSpPr>
            <p:cNvPr id="127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8682120" y="299880"/>
              <a:ext cx="0" cy="30672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cursive functions: main princi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cursion has same power as itera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Every recursive function can be written using while or for loops inst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Every function using while and/or for loops can be written using recursion inst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648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owev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ome programming tasks are much easier to write using recur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ome programming tasks are much easier to write using ite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648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914400" y="299880"/>
            <a:ext cx="7767720" cy="306720"/>
            <a:chOff x="914400" y="299880"/>
            <a:chExt cx="7767720" cy="306720"/>
          </a:xfrm>
        </p:grpSpPr>
        <p:sp>
          <p:nvSpPr>
            <p:cNvPr id="132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8682120" y="299880"/>
              <a:ext cx="0" cy="30672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irect and indirect recursive c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8080" y="762120"/>
            <a:ext cx="7848720" cy="56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recursive subroutine is one that calls itself, either directly  or indirectly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o say that a subroutine calls itself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irectly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means that its definition contains a subroutine call  statement that calls the subroutine that is being defined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 calls fo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int x) { if (x&gt;0) return  1+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x-1) else return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o say that a subroutine calls itself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directly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means that it  calls a second subroutine which in turn calls the first subroutine (either directly or indirectly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 calls bar which calls fo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int x) { if (x&gt;0) return  2+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ba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x-2) else return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ba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int x) { if (x&gt;0) return  2*+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x-1) else return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648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914400" y="299880"/>
            <a:ext cx="7767720" cy="306720"/>
            <a:chOff x="914400" y="299880"/>
            <a:chExt cx="7767720" cy="306720"/>
          </a:xfrm>
        </p:grpSpPr>
        <p:sp>
          <p:nvSpPr>
            <p:cNvPr id="137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8682120" y="299880"/>
              <a:ext cx="0" cy="30672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200" spc="-1" strike="noStrike">
                <a:solidFill>
                  <a:srgbClr val="000099"/>
                </a:solidFill>
                <a:latin typeface="Bitstream Vera Sans"/>
              </a:rPr>
              <a:t>Tail recursion: directly convertible to iter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762120"/>
            <a:ext cx="7848720" cy="54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il recursion: recursive call is the last thing the function do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il recursive functions are typically much faster when written iteratively (unless we have a very good optimising compiler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ail recursiv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int x) { if (x&gt;0) return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(x-2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else return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int x) { if (x&gt;0) return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(x-1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648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else if (x&lt;0) return 1 else return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(x-2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ot tail recursiv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int x) { if (x&gt;0) return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(x-2)+foo(x-1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else return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n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o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int x) { if (x&gt;0) return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1+foo(x-1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else return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914400" y="299880"/>
            <a:ext cx="7767720" cy="306720"/>
            <a:chOff x="914400" y="299880"/>
            <a:chExt cx="7767720" cy="306720"/>
          </a:xfrm>
        </p:grpSpPr>
        <p:sp>
          <p:nvSpPr>
            <p:cNvPr id="142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8682120" y="299880"/>
              <a:ext cx="0" cy="30672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raphical exam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731880"/>
            <a:ext cx="89154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e, modify and program graphical examples from Eck xTurtle lab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nd have a look at </a:t>
            </a:r>
            <a:r>
              <a:rPr b="0" lang="en-GB" sz="15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http://math.hws.edu/graphicsbook/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heck out nice examples in javascrip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Bitstream Vera Sans"/>
              </a:rPr>
              <a:t>https://progur.com/2016/10/procedural-generation-create-fractal-trees-javascript.htm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 u="sng">
                <a:solidFill>
                  <a:srgbClr val="ccccff"/>
                </a:solidFill>
                <a:uFillTx/>
                <a:latin typeface="Bitstream Vera Sans"/>
                <a:hlinkClick r:id="rId1"/>
              </a:rPr>
              <a:t>https://progur.com/2017/02/create-mandelbrot-fractal-javascript.htm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 u="sng">
                <a:solidFill>
                  <a:srgbClr val="ccccff"/>
                </a:solidFill>
                <a:uFillTx/>
                <a:latin typeface="Bitstream Vera Sans"/>
                <a:hlinkClick r:id="rId2"/>
              </a:rPr>
              <a:t>https://stackoverflow.com/questions/49785734/animating-a-fractal-tree-inside-a-javascript-canva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914400" y="299880"/>
            <a:ext cx="7767720" cy="306720"/>
            <a:chOff x="914400" y="299880"/>
            <a:chExt cx="7767720" cy="306720"/>
          </a:xfrm>
        </p:grpSpPr>
        <p:sp>
          <p:nvSpPr>
            <p:cNvPr id="147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8682120" y="299880"/>
              <a:ext cx="0" cy="30672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cursive binary sear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762120"/>
            <a:ext cx="8991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atic int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int[] A, int loIndex, int hiIndex, int value) {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loIndex &gt; hiIndex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-1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middle = (loIndex + hiIndex) / 2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value == A[middle])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middl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lse if (value &lt; A[middle])</a:t>
            </a:r>
            <a:r>
              <a:rPr b="0" lang="ar-SA" sz="16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A, loIndex, middle - 1, value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lse   // value must be &gt; A[middle]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A, middle + 1, hiIndex, value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// end binarySearch()</a:t>
            </a:r>
            <a:r>
              <a:rPr b="0" lang="ar-SA" sz="16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914400" y="299880"/>
            <a:ext cx="7767720" cy="306720"/>
            <a:chOff x="914400" y="299880"/>
            <a:chExt cx="7767720" cy="306720"/>
          </a:xfrm>
        </p:grpSpPr>
        <p:sp>
          <p:nvSpPr>
            <p:cNvPr id="152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8682120" y="299880"/>
              <a:ext cx="0" cy="30672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üleva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kursioon: üldpõhimõt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kursiivsed pild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unktsionaaln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eerim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ogiline programmeerim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k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838080" y="375840"/>
            <a:ext cx="7766280" cy="306360"/>
            <a:chOff x="838080" y="375840"/>
            <a:chExt cx="7766280" cy="306360"/>
          </a:xfrm>
        </p:grpSpPr>
        <p:sp>
          <p:nvSpPr>
            <p:cNvPr id="56" name=""/>
            <p:cNvSpPr/>
            <p:nvPr/>
          </p:nvSpPr>
          <p:spPr>
            <a:xfrm>
              <a:off x="838080" y="67752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604360" y="3758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754520" y="1500120"/>
            <a:ext cx="3913200" cy="3071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unktsionaalne programmeeri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unktsionaalsete keelte idee on programmide kirjutamine (matemaatiliste) funktsioonide defineerimise teel, määramata seejuures täpselt ära, mis strateegia järgi funktsiooni resultaati tuleb arvutad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unktsioonile võib anda argumendik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isi funktsioone ja funktsioon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amise resultaadiks võib samu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lla funktsio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namik kaasaegsei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eerimiskeeli – Javascript, Python, Java, ... --  on funktsionaalse programmeerimise meetoditest mõjustatu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a sisaldavad funktsionaalseid o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838080" y="375840"/>
            <a:ext cx="7766280" cy="306360"/>
            <a:chOff x="838080" y="375840"/>
            <a:chExt cx="7766280" cy="306360"/>
          </a:xfrm>
        </p:grpSpPr>
        <p:sp>
          <p:nvSpPr>
            <p:cNvPr id="157" name=""/>
            <p:cNvSpPr/>
            <p:nvPr/>
          </p:nvSpPr>
          <p:spPr>
            <a:xfrm>
              <a:off x="838080" y="67752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8604360" y="3758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218280" y="2378160"/>
            <a:ext cx="2438280" cy="2905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äide: faktoria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990720"/>
            <a:ext cx="7848720" cy="55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fineerime näiteks faktoriaali funktsiooni  fakt  ja funktsiooni  map , mis rakendab oma esimest, funktsionaalset argumenti teiseks argumendiks oleva loendi igale elemendil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oend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[h|t]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esitatakse sisemiselt kui harilik term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(h,t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kt(0) =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kt(x) = x*fakt(x-1)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ehk: fakt(x) = if x=0 then 1 else x*fakt(x-1))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ap(f,[]) = []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ap(f,[h|t]) = [f(h) | map(f,t)]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valdise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ap(fakt,[3,5,0]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väärtuseks 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[6,120,1]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838080" y="375840"/>
            <a:ext cx="7766280" cy="306360"/>
            <a:chOff x="838080" y="375840"/>
            <a:chExt cx="7766280" cy="306360"/>
          </a:xfrm>
        </p:grpSpPr>
        <p:sp>
          <p:nvSpPr>
            <p:cNvPr id="163" name=""/>
            <p:cNvSpPr/>
            <p:nvPr/>
          </p:nvSpPr>
          <p:spPr>
            <a:xfrm>
              <a:off x="838080" y="67752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8604360" y="3758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valdise väärtustamine (reduktsioon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990720"/>
            <a:ext cx="7848720" cy="50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itakse funktsiooni defineeriv "sobiv" võrd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sendatakse avaldis võrduse parema pool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ormaalsete parameetrid asendatakse tegelike argumentid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gu protsessi korratakse kuni rohkem ei sa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ct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fact (3 - 1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fact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fact (2 - 1)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fact 1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(1 * fact (1 - 1))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(1 * fact 0)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(1 * 1)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838080" y="375840"/>
            <a:ext cx="7766280" cy="306360"/>
            <a:chOff x="838080" y="375840"/>
            <a:chExt cx="7766280" cy="306360"/>
          </a:xfrm>
        </p:grpSpPr>
        <p:sp>
          <p:nvSpPr>
            <p:cNvPr id="168" name=""/>
            <p:cNvSpPr/>
            <p:nvPr/>
          </p:nvSpPr>
          <p:spPr>
            <a:xfrm>
              <a:off x="838080" y="67752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8604360" y="3758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Bitstream Vera Sans"/>
              </a:rPr>
              <a:t>Puhtad ja kombineeritud funktsionaalsed keele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990720"/>
            <a:ext cx="7848720" cy="50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unktsionaalseid keeli saab jämedalt jagada kahte liiki: puhtad ja kombineeritu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uhtas funktsionaalses keeles -- Haskell, Hope, Miranda, FP -- ei ole programmeerijal peale funktsioonide defineerimise ja sisseehitatud baasfunktsioonide (aritmeetika, loendid jms) mingeid lisavahendeid -- kõik kõrvalefektid on keelatud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uhas funktsionaalne keel ei luba muutujatele väärtusi omistada. Ainus efekt, mis funktsiooni rakendamine argumentidele annab, on resultaadi leidmine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bineeritud funktsionaalsed keeled - ML, Lisp, Scheme -  kombineerivad puhaste funktsionaalsete keelte mehhanisme imperatiivsete mehhanismideg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836640" y="364680"/>
            <a:ext cx="7765920" cy="306360"/>
            <a:chOff x="836640" y="364680"/>
            <a:chExt cx="7765920" cy="306360"/>
          </a:xfrm>
        </p:grpSpPr>
        <p:sp>
          <p:nvSpPr>
            <p:cNvPr id="173" name=""/>
            <p:cNvSpPr/>
            <p:nvPr/>
          </p:nvSpPr>
          <p:spPr>
            <a:xfrm>
              <a:off x="836640" y="666360"/>
              <a:ext cx="77626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8602560" y="36468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lus: lambda-arvut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38080" y="990720"/>
            <a:ext cx="7848720" cy="53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mbda-arvutuse keel on Alonzo Churchi poolt 1930. aastatel leiutatud lihtne ja universaalne meetod  funktsioonide kirjapanekuk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mbda-arvutuse teooria tegeleb arvutatavuse ja arvutatavate funktsioonide uurimisega, kasutades selleks lambda-arvutuse keelt kui universaalset programmeerimiskee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hurchi tees väidab, et iga algoritmi saab lambda-arvutuse keeles kirja panna. On võimalik näidata, et lambda-arvutus, nagu ka Prolog, C ja Basic on üks paljudest universaalsetest programmeerimiskeeltest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nkreetselt on lambda-arvutuse keel ja teooria funktsionaalsete programmeerimiskeelte alusek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838080" y="375840"/>
            <a:ext cx="7766280" cy="306360"/>
            <a:chOff x="838080" y="375840"/>
            <a:chExt cx="7766280" cy="306360"/>
          </a:xfrm>
        </p:grpSpPr>
        <p:sp>
          <p:nvSpPr>
            <p:cNvPr id="178" name=""/>
            <p:cNvSpPr/>
            <p:nvPr/>
          </p:nvSpPr>
          <p:spPr>
            <a:xfrm>
              <a:off x="838080" y="67752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8604360" y="3758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nonüümsed funktsioon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990720"/>
            <a:ext cx="784872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ks harilikumaid praktikas kasutatavaid funktsioonide kirjapaneku viise on sellin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(x) = x*x +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unktsioon esitatakse, andes talle samas  nime, konkreetses näites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Lambda-arvutuses esitatakse funktsioone, vastupidi, kui anonüümseid, nimeta terme. äsjatoodud näide on lambda-kirjaviis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. x*x +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mbda-sümboli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järele kirjutatakse funktsiooni formaalseks parameetriks olev muutuja, seejärel punkt ja funktsiooni keh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838080" y="375840"/>
            <a:ext cx="7766280" cy="306360"/>
            <a:chOff x="838080" y="375840"/>
            <a:chExt cx="7766280" cy="306360"/>
          </a:xfrm>
        </p:grpSpPr>
        <p:sp>
          <p:nvSpPr>
            <p:cNvPr id="183" name=""/>
            <p:cNvSpPr/>
            <p:nvPr/>
          </p:nvSpPr>
          <p:spPr>
            <a:xfrm>
              <a:off x="838080" y="67752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8604360" y="3758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ambda-arvut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tme formaalse parameetriga funktsioone esitatakse mitme üksteise sees oleva üheparameetrilise funktsioonina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.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y. x*x+y*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838080" y="375840"/>
            <a:ext cx="7766280" cy="306360"/>
            <a:chOff x="838080" y="375840"/>
            <a:chExt cx="7766280" cy="306360"/>
          </a:xfrm>
        </p:grpSpPr>
        <p:sp>
          <p:nvSpPr>
            <p:cNvPr id="188" name=""/>
            <p:cNvSpPr/>
            <p:nvPr/>
          </p:nvSpPr>
          <p:spPr>
            <a:xfrm>
              <a:off x="838080" y="67752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8604360" y="3758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ä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990720"/>
            <a:ext cx="7848720" cy="60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unktsiooni rakendamiseks kirjutatakse traditsioonilise f(3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semel 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x. x*x+1) 3 -- viimase väärtuseks on 1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aloogiliselt annab (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x.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y. x*x+y*y) 2)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äärtuseks 13. Lambda-termi rakendamisel asendatak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otud muutuja termi kehas termile antud argumendig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f. f(f 2)) 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x. x*x+1))         anna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x. x*x+1) (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x. x*x+1) 2) anna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x. x*x+1) (2*2+1)             anna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x. x*x+1) 5                     anna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5*5+1                                annab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sultaat seejuures asenduste tegemise järjekorrast ei sõltu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838080" y="375840"/>
            <a:ext cx="7766280" cy="306360"/>
            <a:chOff x="838080" y="375840"/>
            <a:chExt cx="7766280" cy="306360"/>
          </a:xfrm>
        </p:grpSpPr>
        <p:sp>
          <p:nvSpPr>
            <p:cNvPr id="193" name=""/>
            <p:cNvSpPr/>
            <p:nvPr/>
          </p:nvSpPr>
          <p:spPr>
            <a:xfrm>
              <a:off x="838080" y="67752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8604360" y="3758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vud ja muu puhtas lambda-arvutu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990720"/>
            <a:ext cx="7848720" cy="60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hurchi leiutatud kodeerimin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0 : 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 : 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 : 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3 : 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itmeetik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CC :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LUS : 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LUS can be thought of as a function taking two natural numbers as arguments and returning a natural number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ULT :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PLUS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0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838080" y="375840"/>
            <a:ext cx="7766280" cy="306360"/>
            <a:chOff x="838080" y="375840"/>
            <a:chExt cx="7766280" cy="306360"/>
          </a:xfrm>
        </p:grpSpPr>
        <p:sp>
          <p:nvSpPr>
            <p:cNvPr id="198" name=""/>
            <p:cNvSpPr/>
            <p:nvPr/>
          </p:nvSpPr>
          <p:spPr>
            <a:xfrm>
              <a:off x="838080" y="67752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8604360" y="3758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mbinatoorne loogi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990720"/>
            <a:ext cx="7848720" cy="60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eel minimaalsem, kui lambda-arvut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I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=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(K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y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=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S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y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z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= (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z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y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z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Given S and K, I itself is unnecessary, since it can be built from the other tw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 = S K K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(S K K)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= (S K K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= (K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K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) =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lambda-termi saab lihtsalt teisendada kombinaatorit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838080" y="375840"/>
            <a:ext cx="7766280" cy="306360"/>
            <a:chOff x="838080" y="375840"/>
            <a:chExt cx="7766280" cy="306360"/>
          </a:xfrm>
        </p:grpSpPr>
        <p:sp>
          <p:nvSpPr>
            <p:cNvPr id="203" name=""/>
            <p:cNvSpPr/>
            <p:nvPr/>
          </p:nvSpPr>
          <p:spPr>
            <a:xfrm>
              <a:off x="838080" y="67752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8604360" y="3758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cur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subroutine is said to be recursive if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t calls itself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either directly or indirectly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at is, the subroutin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s used in its own definitio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cursion can often be used to solve complex problems by reducing them to simpler problems  of the same typ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38080" y="375840"/>
            <a:ext cx="7766280" cy="306360"/>
            <a:chOff x="838080" y="375840"/>
            <a:chExt cx="7766280" cy="306360"/>
          </a:xfrm>
        </p:grpSpPr>
        <p:sp>
          <p:nvSpPr>
            <p:cNvPr id="62" name=""/>
            <p:cNvSpPr/>
            <p:nvPr/>
          </p:nvSpPr>
          <p:spPr>
            <a:xfrm>
              <a:off x="838080" y="67752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8604360" y="3758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79440" y="3614760"/>
            <a:ext cx="4297320" cy="3013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ogiline programmeerimine: 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log on esimene -- ja siiani kasutusel -- loogilise programmeerimise keel. Prolog-ile lisaks on välja töötatud mitmeid uuemaid loogilise programmeerimise keeli ja süstee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log-i põhi-idee on nõuda otsitava lahenduse kirjeldamist esimest järku predikaatarvutuse keeles, kusjuures Prolog-i süsteem sisaldab teatud tüüpi automaatset teoreemitõetajat, mis on võimeline lahendust automaatselt otsima ja tuletam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legipoolest ei ole Prolog siiski automaatse teoreemitõestamise süsteem: viimast realiseeriv mehhanism on Prolog-is väga piiratud, spetsiifiline ja loogiliselt mittetäieli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838080" y="375840"/>
            <a:ext cx="7766280" cy="306360"/>
            <a:chOff x="838080" y="375840"/>
            <a:chExt cx="7766280" cy="306360"/>
          </a:xfrm>
        </p:grpSpPr>
        <p:sp>
          <p:nvSpPr>
            <p:cNvPr id="208" name=""/>
            <p:cNvSpPr/>
            <p:nvPr/>
          </p:nvSpPr>
          <p:spPr>
            <a:xfrm>
              <a:off x="838080" y="67752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8604360" y="3758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ä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atleme esimese näitena sugulussidemete andmebaasi, konkreetselt niisugust Prolog-i programmi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sa(jaan,peeter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sa(jaan,marti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sa(martin,veiko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sa(riivo,leo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ma(leena,leo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anaisa(X,Z) :- isa(X,Y), isa(Y,Z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anaisa(X,Z) :- isa(X,Y), ema(Y,Z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838080" y="375840"/>
            <a:ext cx="7766280" cy="306360"/>
            <a:chOff x="838080" y="375840"/>
            <a:chExt cx="7766280" cy="306360"/>
          </a:xfrm>
        </p:grpSpPr>
        <p:sp>
          <p:nvSpPr>
            <p:cNvPr id="213" name=""/>
            <p:cNvSpPr/>
            <p:nvPr/>
          </p:nvSpPr>
          <p:spPr>
            <a:xfrm>
              <a:off x="838080" y="67752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8604360" y="3758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äringu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38080" y="990720"/>
            <a:ext cx="7848720" cy="57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äringule, kas  isa(riivo,martin)  on antud andmebaasist tuletatav, vastab otsingumootor eitava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isa(riivo,marti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hendust otsib Prologi mootor järgmiselt: kõik andmebaasis olevad laused vaadatakse järjest läbi ning püütakse iga lause esimest literaali päringu-literaaliga unifitseerida. Kui see ei õnnestu, vastatakse päringule eitava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äringule, kas  isa(riivo,leo)  on antud  andmebaasist tuletatav, vastab otsingumootor jaataval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isa(riivo,leo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838080" y="375840"/>
            <a:ext cx="7766280" cy="306360"/>
            <a:chOff x="838080" y="375840"/>
            <a:chExt cx="7766280" cy="306360"/>
          </a:xfrm>
        </p:grpSpPr>
        <p:sp>
          <p:nvSpPr>
            <p:cNvPr id="218" name=""/>
            <p:cNvSpPr/>
            <p:nvPr/>
          </p:nvSpPr>
          <p:spPr>
            <a:xfrm>
              <a:off x="838080" y="67752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8604360" y="3758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äringu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8080" y="990720"/>
            <a:ext cx="7848720" cy="53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äringud võivad sisaldada muutujaid: sellisel juhul leiab Prologi mootor  lahenduse , st. muutuja asemele substitueeritava termi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isa(jaan,X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pee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me ei ole rahul esimese leitud lahendusega, võime otsingumootorit instrueerida uusi lahendusi otsima, st püüdma unifitseerida päringut järgmiste andmebaasis olevate lauseteg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isa(jaan,X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peeter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martin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838080" y="375840"/>
            <a:ext cx="7766280" cy="306360"/>
            <a:chOff x="838080" y="375840"/>
            <a:chExt cx="7766280" cy="306360"/>
          </a:xfrm>
        </p:grpSpPr>
        <p:sp>
          <p:nvSpPr>
            <p:cNvPr id="223" name=""/>
            <p:cNvSpPr/>
            <p:nvPr/>
          </p:nvSpPr>
          <p:spPr>
            <a:xfrm>
              <a:off x="838080" y="67752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8604360" y="3758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eglite kasuta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das reageerib otsingumootor päringule, kas Jaan on kellegi vanais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vanaisa(jaan,X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veik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838080" y="375840"/>
            <a:ext cx="7766280" cy="306360"/>
            <a:chOff x="838080" y="375840"/>
            <a:chExt cx="7766280" cy="306360"/>
          </a:xfrm>
        </p:grpSpPr>
        <p:sp>
          <p:nvSpPr>
            <p:cNvPr id="228" name=""/>
            <p:cNvSpPr/>
            <p:nvPr/>
          </p:nvSpPr>
          <p:spPr>
            <a:xfrm>
              <a:off x="838080" y="67752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8604360" y="3758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di elemen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irjutame programmi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embe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, mis kontrollib, kas esimene argument kuulub teiseks argumendiks olevasse loendiss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ember(X,[X|Z]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ember(X,[Y|Z]) :- member(X,Z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member(10,[20,30,10,40]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838080" y="375840"/>
            <a:ext cx="7766280" cy="306360"/>
            <a:chOff x="838080" y="375840"/>
            <a:chExt cx="7766280" cy="306360"/>
          </a:xfrm>
        </p:grpSpPr>
        <p:sp>
          <p:nvSpPr>
            <p:cNvPr id="233" name=""/>
            <p:cNvSpPr/>
            <p:nvPr/>
          </p:nvSpPr>
          <p:spPr>
            <a:xfrm>
              <a:off x="838080" y="67752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8604360" y="3758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iida loend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990720"/>
            <a:ext cx="7848720" cy="61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ppend([],Z,Z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ppend([X|Y],Z,[X|R]) :- append(Y,Z,R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append([a,b],[c,d],L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=[a,b,c,d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append(X,Y,[a,b,c,d]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], Y=[a,b,c,d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a], Y=[b,c,d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a,b], Y=[c,d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a,b,c], Y=[d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a,b,c,d], Y=[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838080" y="375840"/>
            <a:ext cx="7766280" cy="306360"/>
            <a:chOff x="838080" y="375840"/>
            <a:chExt cx="7766280" cy="306360"/>
          </a:xfrm>
        </p:grpSpPr>
        <p:sp>
          <p:nvSpPr>
            <p:cNvPr id="238" name=""/>
            <p:cNvSpPr/>
            <p:nvPr/>
          </p:nvSpPr>
          <p:spPr>
            <a:xfrm>
              <a:off x="838080" y="67752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8604360" y="3758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ermutatsioon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38080" y="9907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erm(L, [H|T]) :- app(V,[H|U], L), app(V,U,W),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erm(W,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erm([],[]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- perm([a,b,c],X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a,b,c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a,c,b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b,a,c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b,c,a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c,a,b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=[c,b,a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838080" y="375840"/>
            <a:ext cx="7766280" cy="306360"/>
            <a:chOff x="838080" y="375840"/>
            <a:chExt cx="7766280" cy="306360"/>
          </a:xfrm>
        </p:grpSpPr>
        <p:sp>
          <p:nvSpPr>
            <p:cNvPr id="243" name=""/>
            <p:cNvSpPr/>
            <p:nvPr/>
          </p:nvSpPr>
          <p:spPr>
            <a:xfrm>
              <a:off x="838080" y="67752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8604360" y="3758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cursion: bad kind does not termin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ad kind (infinite loop which never terminates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 car is a ca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def fact(x)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return fact(x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838080" y="375840"/>
            <a:ext cx="7766280" cy="306360"/>
            <a:chOff x="838080" y="375840"/>
            <a:chExt cx="7766280" cy="306360"/>
          </a:xfrm>
        </p:grpSpPr>
        <p:sp>
          <p:nvSpPr>
            <p:cNvPr id="68" name=""/>
            <p:cNvSpPr/>
            <p:nvPr/>
          </p:nvSpPr>
          <p:spPr>
            <a:xfrm>
              <a:off x="838080" y="67752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8604360" y="3758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29200" y="2577960"/>
            <a:ext cx="3362400" cy="2086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ecursion: good cases termin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Good kind – loop is (hopefully) terminate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n "ancestor" is either a parent or an ancestor of a pa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ef fact(x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x&lt;=0: return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: return x*fact(x-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838080" y="375840"/>
            <a:ext cx="7766280" cy="306360"/>
            <a:chOff x="838080" y="375840"/>
            <a:chExt cx="7766280" cy="306360"/>
          </a:xfrm>
        </p:grpSpPr>
        <p:sp>
          <p:nvSpPr>
            <p:cNvPr id="74" name=""/>
            <p:cNvSpPr/>
            <p:nvPr/>
          </p:nvSpPr>
          <p:spPr>
            <a:xfrm>
              <a:off x="838080" y="67752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8604360" y="3758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actorial: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def fact(x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if x&lt;=0: return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else: return x*fact(x-1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act(3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fact(3 - 1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fact(2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fact(2 - 1)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fact(1)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(1 * fact(1 - 1))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(1 * fact(0))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3 * (2 * (1 * 1)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&gt; 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914400" y="299880"/>
            <a:ext cx="7767720" cy="306720"/>
            <a:chOff x="914400" y="299880"/>
            <a:chExt cx="7767720" cy="306720"/>
          </a:xfrm>
        </p:grpSpPr>
        <p:sp>
          <p:nvSpPr>
            <p:cNvPr id="79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8682120" y="299880"/>
              <a:ext cx="0" cy="30672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38080" y="-436680"/>
            <a:ext cx="77724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200" spc="-1" strike="noStrike">
                <a:solidFill>
                  <a:srgbClr val="000099"/>
                </a:solidFill>
                <a:latin typeface="Bitstream Vera Sans"/>
              </a:rPr>
              <a:t>Recursive objects in the world. Fractal objec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huge amount of of things in the real world has a recursive natu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or example, coastline of a sea has 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racta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nature – fractals are  recursive: their structure is repeated over and over in small detail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erpinski triang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612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914400" y="299880"/>
            <a:ext cx="7767720" cy="306720"/>
            <a:chOff x="914400" y="299880"/>
            <a:chExt cx="7767720" cy="306720"/>
          </a:xfrm>
        </p:grpSpPr>
        <p:sp>
          <p:nvSpPr>
            <p:cNvPr id="84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8682120" y="299880"/>
              <a:ext cx="0" cy="30672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62120" y="3429000"/>
            <a:ext cx="2377800" cy="258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352680" y="3429000"/>
            <a:ext cx="2378160" cy="2583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2378160" cy="2583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ract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vening over San Francisco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914400" y="299880"/>
            <a:ext cx="7767720" cy="306720"/>
            <a:chOff x="914400" y="299880"/>
            <a:chExt cx="7767720" cy="306720"/>
          </a:xfrm>
        </p:grpSpPr>
        <p:sp>
          <p:nvSpPr>
            <p:cNvPr id="92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8682120" y="299880"/>
              <a:ext cx="0" cy="30672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696080" cy="4329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Fract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>
              <a:lnSpc>
                <a:spcPct val="97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ature uses as little as possible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914400" y="299880"/>
            <a:ext cx="7767720" cy="306720"/>
            <a:chOff x="914400" y="299880"/>
            <a:chExt cx="7767720" cy="306720"/>
          </a:xfrm>
        </p:grpSpPr>
        <p:sp>
          <p:nvSpPr>
            <p:cNvPr id="98" name=""/>
            <p:cNvSpPr/>
            <p:nvPr/>
          </p:nvSpPr>
          <p:spPr>
            <a:xfrm>
              <a:off x="914400" y="601920"/>
              <a:ext cx="77644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8682120" y="299880"/>
              <a:ext cx="0" cy="30672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 Tammet</cp:lastModifiedBy>
  <dcterms:modified xsi:type="dcterms:W3CDTF">2018-11-11T19:45:22Z</dcterms:modified>
  <cp:revision>12</cp:revision>
  <dc:subject/>
  <dc:title>PowerPoint Presentation</dc:title>
</cp:coreProperties>
</file>